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92CF-3EDD-4BE7-9FFC-99BEE11E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4C6-43C6-49FB-96E1-712E8A8E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99C-0950-4D10-8E01-12DDD88E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876-2839-45D1-93D6-3C13C92B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257B-8F1D-4CA7-AD42-A0D7BD6F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F48-08D2-4868-9C64-ECE8993C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C5AD-6DAA-4140-AC08-E2CEF7D6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3958-3B36-4C45-A9F2-718F6744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200C-15C9-43FB-B3FD-2E48BED9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FC17-BA76-446A-9D90-679D4608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A70-122D-427B-B6D4-AF9E728B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6C4-B08A-46CE-81F5-57230562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5732-BB4F-4777-9403-E5DA82D0D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comic"/>
              </a:rPr>
              <a:t>Ianchi</a:t>
            </a:r>
            <a:r>
              <a:rPr b="1" i="1" lang="ro-RO" sz="4400" spc="-1" strike="noStrike">
                <a:solidFill>
                  <a:srgbClr val="333399"/>
                </a:solidFill>
                <a:latin typeface="comic"/>
              </a:rPr>
              <a:t>Ş</a:t>
            </a:r>
            <a:r>
              <a:rPr b="1" i="1" lang="en-US" sz="4400" spc="-1" strike="noStrike">
                <a:solidFill>
                  <a:srgbClr val="333399"/>
                </a:solidFill>
                <a:latin typeface="comic"/>
              </a:rPr>
              <a:t> Claudia-Andre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Sunt din Bălan,am 17 ani,invăt  la  Liceul Teoretic I.Agîrbiceanu.Am  ales  acest liceu ,deoarece imi  plac   limbile  straine,istoria si  literatura,motiv pentru  care  sunt  la  profil um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În ceea ce priveşte viitorul,pot  spune ca  mi-ar plăcea  să urmez facultatea  de  drept,în  Cluj pentru  că îmi  place  să  socializez,să  apăr dreptatea,   dar   şi  să  pot  să-mi exprim  cu tărie punctul  de  ved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Mă  consider  o  persoană ambiţioasă ,responsabilă   si cu multă  forţa  de muncă!Îmi  place să-mi peterc  timpul liber  alături  de  prietenii  mei   ,să  citesc,să  ascul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z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ic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09:28:39Z</dcterms:created>
  <dc:creator> </dc:creator>
  <dc:description/>
  <dc:language>en-US</dc:language>
  <cp:lastModifiedBy> </cp:lastModifiedBy>
  <dcterms:modified xsi:type="dcterms:W3CDTF">2011-10-07T09:16:49Z</dcterms:modified>
  <cp:revision>3</cp:revision>
  <dc:subject/>
  <dc:title>Ianchi Claudia-Andreea</dc:title>
</cp:coreProperties>
</file>